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324F-777B-46D4-910C-210ED36D9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9AC6-D82B-458D-BF71-05C6ADC28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F96D-CE2F-4915-8894-2780FE44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45D-85D9-4CBA-B5D8-EE0EE6FB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2B5-7622-482F-9852-8D34F213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DDA-ABA3-4D89-97F4-4E1CEEE2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1C1-FEA6-4AEF-B102-1CFF98832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575-5F0E-4532-9D60-A44A1F05C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1CF2-2561-4622-9F77-45A959A5A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6767-1267-4D81-B2BB-A45A19BC5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F83F-A0F5-4B50-BCE1-036929FD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5F44-9980-4342-92E2-CA9E09A7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1141D-8FD8-4FF8-A2CF-82EC68F984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cooltoolsforschools.wikispaces.com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cttoolkit.wikispaces.com/online+Tools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adwritethink.org/index.asp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New eLearning Resources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ff0066"/>
                </a:solidFill>
                <a:latin typeface="Arial"/>
              </a:rPr>
              <a:t>Possible tools for </a:t>
            </a:r>
            <a:br>
              <a:rPr sz="4000"/>
            </a:br>
            <a:r>
              <a:rPr b="0" lang="en-AU" sz="4000" spc="-1" strike="noStrike">
                <a:solidFill>
                  <a:srgbClr val="ff0066"/>
                </a:solidFill>
                <a:latin typeface="Arial"/>
              </a:rPr>
              <a:t>personalising learning</a:t>
            </a:r>
            <a:endParaRPr b="0" lang="en-US" sz="40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773360"/>
            <a:ext cx="806472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phasis on personalising learning, sharing and collaborating, organising information efficiently for quick delivery or retriev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ise web-based star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: Blogs and wi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end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ng favourites – book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working – social learning net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Personalise a sample start page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reate new page on iGoogle or the Level 4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sert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message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ome favourite activity li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calendar with  2 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 RSS feed to something of interest to your cl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 link to a blog or wik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>
            <a:hlinkClick r:id="rId1"/>
          </p:cNvPr>
          <p:cNvPicPr/>
          <p:nvPr/>
        </p:nvPicPr>
        <p:blipFill>
          <a:blip r:embed="rId2"/>
          <a:srcRect l="0" t="23945" r="0" b="8002"/>
          <a:stretch/>
        </p:blipFill>
        <p:spPr>
          <a:xfrm>
            <a:off x="179280" y="1557360"/>
            <a:ext cx="896472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>
            <a:hlinkClick r:id="rId1"/>
          </p:cNvPr>
          <p:cNvPicPr/>
          <p:nvPr/>
        </p:nvPicPr>
        <p:blipFill>
          <a:blip r:embed="rId2"/>
          <a:srcRect l="0" t="24309" r="0" b="4313"/>
          <a:stretch/>
        </p:blipFill>
        <p:spPr>
          <a:xfrm>
            <a:off x="250920" y="1413000"/>
            <a:ext cx="871380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>
            <a:hlinkClick r:id="rId1"/>
          </p:cNvPr>
          <p:cNvPicPr/>
          <p:nvPr/>
        </p:nvPicPr>
        <p:blipFill>
          <a:blip r:embed="rId2"/>
          <a:srcRect l="0" t="23100" r="0" b="4540"/>
          <a:stretch/>
        </p:blipFill>
        <p:spPr>
          <a:xfrm>
            <a:off x="395280" y="1989000"/>
            <a:ext cx="82803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ff0066"/>
                </a:solidFill>
                <a:latin typeface="Arial"/>
              </a:rPr>
              <a:t>Etherpad</a:t>
            </a:r>
            <a:endParaRPr b="0" lang="en-US" sz="4400" spc="-1" strike="noStrike">
              <a:solidFill>
                <a:srgbClr val="ff00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aborative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0" t="22916" r="0" b="3741"/>
          <a:stretch/>
        </p:blipFill>
        <p:spPr>
          <a:xfrm>
            <a:off x="0" y="1781280"/>
            <a:ext cx="91440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4T01:10:37Z</dcterms:created>
  <dc:creator>02167970</dc:creator>
  <dc:description/>
  <dc:language>en-US</dc:language>
  <cp:lastModifiedBy>02167970</cp:lastModifiedBy>
  <dcterms:modified xsi:type="dcterms:W3CDTF">2009-10-19T23:22:06Z</dcterms:modified>
  <cp:revision>6</cp:revision>
  <dc:subject/>
  <dc:title>New eLearning Resources</dc:title>
</cp:coreProperties>
</file>